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179-2D23-4A0F-92F3-A1804AD5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2B1-C778-471C-AD02-6B346FF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0DF-6DB7-46B3-A392-F5367B5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353-BA91-4F1F-9EBB-2D58A868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75A-68E7-4FFD-9E69-9D942BF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81C-AB66-4752-9A2F-DE7D7437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6CD-9B35-4EF5-B56F-4C4726D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E07-0C8F-45EC-BA34-88344595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5AD-FC9C-4B28-9BFE-F5441DAF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A3E-150A-4D03-AA4D-675260F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8A0-769B-403E-BDCC-C2F2404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AB7-98F8-4A36-94BE-8FF11F6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9FB5-2DA7-40CF-BBAE-5A1FCC992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to discu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 1: How do we learn about European Colonization of Africa? Whose story do we tell?  What do you think could be wrong with this stor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y does who tells the story matt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 2:What if I told you that Europeans purposely created political boundaries to keep Africa subservient to Europe (that is--blacks serve Whites—whites exploit the land the peop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1:34:12Z</dcterms:created>
  <dc:creator>callen</dc:creator>
  <dc:description/>
  <dc:language>en-US</dc:language>
  <cp:lastModifiedBy>callen</cp:lastModifiedBy>
  <dcterms:modified xsi:type="dcterms:W3CDTF">2012-02-29T22:04:29Z</dcterms:modified>
  <cp:revision>1</cp:revision>
  <dc:subject/>
  <dc:title>Slide 1</dc:title>
</cp:coreProperties>
</file>